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65B-0416-4EB0-9126-93C10CCC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E20-0A35-48D9-8CA4-3BEC71A9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1838-C0FE-42FE-8E00-8D193728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AE6E-189A-4EC2-B70C-D35D7C87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A738-FFE4-4BC0-AFF0-CBDF9F8E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0682-0C67-4166-8397-63D3FFE5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AA42-DAB4-47E4-84B0-AC623E79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FCF0-A51D-4224-97D1-6D57B5AD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C389-3C13-4274-AD11-D4342CA4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AEF5-D5F5-4BFE-8C0F-89D4D687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4892-EF61-47D6-8786-6993F34C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405-CB02-4D42-BF09-94E39F80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9352-0ECA-44B4-A2CE-43D1E9CA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4A40-2486-441A-A234-AB8210EB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53E0-1AC0-4E01-BE68-513B24F8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15DD-598C-47BE-A23D-C241E387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1D26-0040-4BCF-B4C7-6C20F1F7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26B-7A92-4F1F-AB93-DA38C88B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48B6-B351-4039-B98D-B1588F33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8E9-BD89-4580-ACD6-D9D5FD3C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B92-5DFD-4124-8931-25E5B918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2A9-BF69-43B2-A6CF-D9193DF3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34E-DCA1-46CA-A47C-AE07371E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DEB7-F04A-483F-979A-C205AB00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CB1F-AFDA-4291-B235-607416A86AE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1B38-C773-47DF-9B24-9213CA08D9C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pp.eurostat.ec.europa.eu/statistics_explained/images/0/03/Weighted_emissions_of_acidifying_substances%2C_by_sector%2C_EU-27%2C_2005_%281%29%28%25%2C_based_on_acid_equivalents%29.PN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cWpkWBX04E&amp;feature=related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Air Pollutio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2362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Is I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05740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damage that results from chemicals that are released into the environment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hemical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nviron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umans (emissions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econdary Polluta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uel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Release of noxious gas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4143240" cy="2886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48769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jor contributor to the world’s atmospheric decomposition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5715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ost common results of pollution: smog, acid rain, and the increasing “greenhouse effect”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ttp://www.lbl.gov/Education/ELSI/pollution-main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ttp://www.epa.gov/ebtpages/air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ttp://healthandenergy.com/air_pollution_causes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ttp://library.thinkquest.org/26026/Environmental_Problems/air_pollution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mo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ype of large-scale outdoor pollu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xhaust from automobiles and emissions from industrial plants contribute to smog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ypically smog resides in metropolitan area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mmon during warmer times of year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Smog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oud that forms from pollutants released into the environmen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3962520"/>
            <a:ext cx="3848040" cy="2600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00600" y="449568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lso called “ground-level ozone”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mog has permanent effects on the respiratory system and heart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cid Rai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ighly-acidic rain is a result of air pollution (low pH level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missions react with water molecules in the environmen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armful effects on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quatic lif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lan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frastructu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87692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ost common gas that contributes to acid rain is sulfur dioxid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114800" y="2666880"/>
            <a:ext cx="455292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636480"/>
            <a:ext cx="6705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Greenhouse Effec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sult of over-abundance of carbon dioxide in the atmospher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lants can’t consume and convert it from humans quickly enough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ayer is created close to the surface of the earth; warm air is trappe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2971800"/>
            <a:ext cx="2895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creased thickness of carbon dioxide layer is what scientists believe is the main cause of climate chang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reenhouse effect causes world temperatures to increase (even a few degrees can effect habitats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48672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4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850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fforts to Improv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trary to popular belief, Americans have actually decreased the amount of emissions in recent years, according to the EPA (Environmental Protection Agency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That being said, the U.S. is still a primary contributor to the world’s overall pollution crisis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 an effort to more clearly define the way the environment and the nation’s air quality should be treated, the Clean Air Act was passed in 1990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ulfur dioxide emissions, the most common pollutant from factories, statistically decreased in the United States in the last decad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ost likely due to better education, the automobile industry has produced more economically-friendly car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version to cleaner fuels (biodiesel, electricity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jor contributor to world’s air pollution is rooted in China (disregard for ozone and a need to industrialize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ir Pollution Statist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400,000 Chinese citizens die prematurely each year from respiratory illnesses and other diseases due to air pollution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 the past 150 years, humans have pumped enough carbon dioxide into the atmosphere to raise CO2 levels higher than they have been for hundreds of thousands of year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cientists equate breathing in the air in China for one day to smoking two packs of cigarette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" descr="File:Weighted emissions of acidifying substances, by sector, EU-27, 2005 (1)(%, based on acid equivalents)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9880"/>
            <a:ext cx="59436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youtube.com/watch?v=UcWpkWBX04E&amp;feature=related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choking earth"/>
          <p:cNvPicPr/>
          <p:nvPr/>
        </p:nvPicPr>
        <p:blipFill>
          <a:blip r:embed="rId2"/>
          <a:stretch/>
        </p:blipFill>
        <p:spPr>
          <a:xfrm>
            <a:off x="2971800" y="3124080"/>
            <a:ext cx="32767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8:52:57Z</dcterms:created>
  <dc:creator>SASD</dc:creator>
  <dc:description/>
  <dc:language>en-US</dc:language>
  <cp:lastModifiedBy>Trevor Van Gorden</cp:lastModifiedBy>
  <dcterms:modified xsi:type="dcterms:W3CDTF">2010-03-02T01:27:48Z</dcterms:modified>
  <cp:revision>53</cp:revision>
  <dc:subject/>
  <dc:title>Air Pollution</dc:title>
</cp:coreProperties>
</file>